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9D7-9202-4511-9C0B-F59AF3FA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A02-C597-4AFD-9DF1-03FB0AD9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294-2294-4C7D-A4AF-FAADD37E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128-B100-4637-95C2-589F78B2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C35-224F-4EE6-8CA9-8BFDEDAA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366-F43E-4A3E-9E08-018DBB1A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372-4519-419B-B0D2-82BAB86B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026-7052-4F40-B69E-63010389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6DB-5FB5-441B-A5A1-6234B7D1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BE0-56C6-4AD9-8F85-6782A0BD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EEB-F173-438F-9758-CCAB480C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100-B93B-48B5-842B-2F1BE3D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40C2-D60A-4C0B-9967-2626E3461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Felix Titling"/>
              </a:rPr>
              <a:t>Ru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Felix Titling"/>
              </a:rPr>
              <a:t>By: Chris and Mich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ighw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09480" y="533520"/>
            <a:ext cx="82296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elix Titling"/>
              </a:rPr>
              <a:t>I have ru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elix Titling"/>
              </a:rPr>
              <a:t>A highw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elix Titling"/>
              </a:rPr>
              <a:t>That was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elix Titling"/>
              </a:rPr>
              <a:t>A buil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ush hou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762120" y="457200"/>
            <a:ext cx="7848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And 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You were proba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For rush h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14400" y="609480"/>
            <a:ext cx="7315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Felix Titling"/>
              </a:rPr>
              <a:t>Forgive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Felix Titling"/>
              </a:rPr>
              <a:t>The tar was still w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Felix Titling"/>
              </a:rPr>
              <a:t>So st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Felix Titling"/>
              </a:rPr>
              <a:t>So 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elix Titling"/>
              </a:rPr>
              <a:t>Bibliogra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elix Titling"/>
              </a:rPr>
              <a:t>Works C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Chan, Christopher. “Rush Hour (#12) on Flickr - Photo Sharing!.”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elix Titling"/>
              </a:rPr>
              <a:t>Welcome to Flickr - Photo Sharing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. 18 Apr. 2007. 16 Apr. 2009 &lt;http://www.flickr.com/photos/chanc/463830261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None, MenetnashtÃ©. “La Brea Tar Pits on Flickr - Photo Sharing!."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elix Titling"/>
              </a:rPr>
              <a:t>Welcome to Flickr - Photo Sharing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. 7 June 2008. 16 Apr. 2009 &lt;http://www.flickr.com/photos/sandy_pics/2559830392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None, Nrbelex. “Highway Insomnia on Flickr - Photo Sharing!."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elix Titling"/>
              </a:rPr>
              <a:t>Welcome to Flickr - Photo Sharing</a:t>
            </a: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. 9 Apr. 2007. 16 Apr. 2009 &lt;http://www.flickr.com/photos/nrbelex/452412873/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lix Titling"/>
              </a:rPr>
              <a:t>Created at www.bibm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21:25Z</dcterms:created>
  <dc:creator>Lakeview</dc:creator>
  <dc:description/>
  <dc:language>en-US</dc:language>
  <cp:lastModifiedBy>cyndi.vander_ven</cp:lastModifiedBy>
  <dcterms:modified xsi:type="dcterms:W3CDTF">2009-04-17T12:40:48Z</dcterms:modified>
  <cp:revision>3</cp:revision>
  <dc:subject/>
  <dc:title>Running</dc:title>
</cp:coreProperties>
</file>